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D3B8-892B-4F7E-9E7C-E9A855DE2DA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lgebra</a:t>
            </a: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Gr. 6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difference between an expression and an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has an equal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xplain the difference between an expression and an equatio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quation has an equal sign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9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(9 + 3)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9s - 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area of the wall that Keesha will paint?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 l x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 18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  64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10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is the area of the wall that Keesha will paint?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 =  l x 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should replace 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number should replace 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+ 2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4CB7-F4C5-4BEB-BFE2-207361FE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363-717C-4C6F-BBEE-9AAEEFE5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C9B-28A2-4627-AC7D-7A0E4EA8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172-E03E-434C-859F-4DEDB933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0D56-EA56-4F92-817D-EE0210B5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8CF7-9C0E-44C6-ADC8-A6C7419B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A2F7-B9CC-490A-B61E-50638F25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CC4D-BF15-41D2-9534-B1C8AE08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E90C-B1C4-47DF-8EC1-1F4110BB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5F6F-B41E-4C24-B5D6-E014F29B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DB35-47FC-4D48-9F34-257956AB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4BE-C31C-40A3-9FEB-6B4FC7FF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A778-0658-403B-ABAE-7A920C96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D485-4E86-454C-988F-6F6D63D9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9C37-6A7C-49BC-8625-D688A59E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EC9D-1347-48FD-A7BE-0AC87944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5CB2-2BE5-411F-93BB-DC811C69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785-7C5A-4231-AC19-3C56EE7E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505-7C65-4035-A112-1D3C0EFA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2E0-E7A3-44E2-B139-A17B2959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A6C-6254-4819-897D-AF002175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E64-2276-4DD9-B9E4-76678FAC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7F5-B97A-4314-B036-B38FCF13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F65-8972-43CE-A99C-9594BAE7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C662-2151-463E-A7CB-71F3EFD45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68AF-F181-4776-814A-6C4289210C01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Algebra</a:t>
            </a:r>
            <a:br>
              <a:rPr sz="52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r. 6</a:t>
            </a:r>
            <a:br>
              <a:rPr sz="52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2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Explain the difference between an expression and an equation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Equation has an equal sign.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Which expression represents the number of stamps Sarah has left?</a:t>
            </a:r>
            <a:br>
              <a:rPr sz="40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s,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n each envelope. She sells 3 of the envelop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hat is the area of the wall that Keesha will paint?    </a:t>
            </a:r>
            <a:r>
              <a:rPr b="1" i="1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 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l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x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What number should replace n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rite an expression for the number of hummingbirds Lewis saw on Saturda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h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. On Saturday, he saw 3 more than twice the number of hummingbirds he saw on Friday. Write your answ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35:40Z</dcterms:modified>
  <cp:revision>9</cp:revision>
  <dc:subject/>
  <dc:title>Percent</dc:title>
</cp:coreProperties>
</file>